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9A64-C707-475A-B643-9F845BBF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8089-8543-451C-AD72-0718297428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ute spreche ich über Erdbeben in Deutsch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3087-E700-4EEC-95F6-92FA246A23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ource talked about a project that could read earthquake activities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erste Quelle hat ein Projekt besprochen, das Erdbebentätigkeiten in Deutschland lesen könnte. Die erste Quelle hat ein Projekt besprochen, das Erdbebentätigkeiten in Deutschland lesen kön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2D52-D636-4CF7-AF65-BC465DCAB7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Auto ist beschädigt. The car is dama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gibt eine Frau neben dem Auto. There is a woman next to the c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gibt Bauschutt an, und unter, dem Auto. There are building debris on and under the c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Jahr 1992, gab es ein starkes Erdbeben in Deutschland. In 1992, there was a strong earthquake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Erdbeben betraff 1525 Menschen und Gebäude. The earthquake affected 1525 people and buil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Stärke des Erdbebens war bei 5,2. The magnitude of the earthquake was 5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Leute unterbewerteten die Stärke von Erdbeben in Deutschland. People underestimate the strength of the earthqu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Leute sagen, dass das Niveau der Erdbebengefährdung in Deutschland gering ist. People say that the level of the earthquake threat in Germany is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ist vielleicht weniger bereit für Erdbeben als die U.S. Germany might be less prepared for earthquakes tha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um sind die viele Deutschen fahrlässig von Erdbeben? Why are many Germans negligent of the earthqu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le Deutschen sind fahrlässig, weil das Erdbeben nicht oft vorkomm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he Region hat die meisten Erdbeben in Deutschland? Which region has the most earthquakes in Germa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üd Deutschland hat die meisten Erdbe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elten ist das Erdbeben in Deutschland? How rare is the earthquake in Germa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Erdbeben ist sehr selten. Es gibt nur 0,06 Erdbeben pro Jah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46AC-83D0-4CAD-B487-D4EDDA2586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 are rare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dbeben sind selten in Deutsch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E558-EEBB-41D2-A824-F6A6A5BF4C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ore earthquakes in the southern area of Germany than the norther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gibt mehr Erdbeben im südlichen Gegend von Deutschland als das nördliche Geg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03A6-6426-4525-BA1A-B379336332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2, there was a strong earthquake in Germany that affected 1525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1992 gab es ein starkes Erdbeben in Deutschland, das 1525 Leute beeinflusst h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2885-4FA3-4E3E-8DAB-5B29B2E295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ore storms than earthquakes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gibt mehr Stürme als Erdbeben in Deutsch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C456-0F2B-472A-BD5F-6BFDBE72ED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eptember 8, 2011, there was a 4.4 earthquake that scared many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8 September 2011 gab es ein 4,4 Erdbeben, das viele Leute erschrocken h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875-9FFA-4BA9-BB37-47AB4480CB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arthquake was unusually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ses Erdbeben war ungewöhnlich st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B286-90A9-4915-AC22-9C06026E28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earthquakes that occurred this year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gibt nur zwei Erdbeben in Deutschland in diesem Jah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2A32-9CAC-468E-BB2A-5B130C8521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 with the magnitude of 4.4 are considered strong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dbeben mit der Größe von 4,4 sind stark in Deutschland beda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D9C0-92CD-4C13-9FBB-747DADAB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E059-20BC-4333-969C-B7F5DA9E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B76F-1ABE-4638-921D-2A6A1D67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2D6A-8F91-4035-817D-E4F83CE8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96C6-2A10-4E6F-9F4B-647FDE6A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E7C4-6268-49AE-B24C-B3C1BB06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F44B-AA0F-4F52-B57E-8BE3DD88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C3F0-E526-4527-8641-59CCF007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13D6-AA29-4F74-BC84-2CF44943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78D1-4244-4B8A-8AF2-A3449546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7BCC-A13F-496A-9389-C756AB1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BA7D-8322-494D-BFAB-ABCB8B44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98F5-FDA1-4911-800A-8DFCE479BC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edim.de/english/1017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Environmental Issues in German Speaking Countri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Disaster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ebecca K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ticl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edim.de/english/1017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preventionweb.net/english/countries/statistics/index.php?cid=66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sott.net/articles/show/234743-Germany-Earthquake-Shakes-the-Rhinela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preventionweb.net/english/countries/statistics/index.php?cid=66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cedim.de/english/1017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thelocal.de/society/20110909-37487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erdbeben in deutsch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3e3ff"/>
                </a:solidFill>
                <a:latin typeface="Arial"/>
              </a:rPr>
              <a:t>Source 1: Center for Disaster Management and Risk Reduction Technology</a:t>
            </a:r>
            <a:endParaRPr b="0" lang="en-US" sz="33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level of seismic hazard in Germany i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ow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were earthquakes with magnitudes abov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rban areas ar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vulnerable than rur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ismic intensity V or less cause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 damag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building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risk exists in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ninhabite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rea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38480" y="2282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gure 1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 Hazard of the D-A-CH Countries (Germany, Austria, Switzerla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228600" y="0"/>
            <a:ext cx="442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3e3ff"/>
                </a:solidFill>
                <a:latin typeface="Arial"/>
              </a:rPr>
              <a:t>Source 2: Germany – Disaster Statistics</a:t>
            </a:r>
            <a:endParaRPr b="0" lang="en-US" sz="3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verage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.0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arthquakes per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2, there we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ople aff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 cause economic damage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31,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.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ople are killed per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 occurr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s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3e3ff"/>
                </a:solidFill>
                <a:latin typeface="Arial"/>
              </a:rPr>
              <a:t>Figure 2: Natural Disaster </a:t>
            </a:r>
            <a:br>
              <a:rPr sz="3500"/>
            </a:br>
            <a:r>
              <a:rPr b="0" lang="en-US" sz="3500" spc="-1" strike="noStrike">
                <a:solidFill>
                  <a:srgbClr val="e3e3ff"/>
                </a:solidFill>
                <a:latin typeface="Arial"/>
              </a:rPr>
              <a:t>Occurrence this year</a:t>
            </a:r>
            <a:endParaRPr b="0" lang="en-US" sz="35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372280" cy="53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e3ff"/>
                </a:solidFill>
                <a:latin typeface="Arial"/>
              </a:rPr>
              <a:t>Source 3: Germany: Earthquake Shakes the Rhineland </a:t>
            </a:r>
            <a:endParaRPr b="0" lang="en-US" sz="3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ptember 8, 20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nusually strong earthquake occurred in W. Ger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rat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Richter Sc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quake was felt with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k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s the strongest earthquake reported this autum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more th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mergency calls re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gure 3: Earthquake in Rhinel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Photo: DPA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45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magnitude of the latest earthquake in German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times did the earthquake occur this ye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7:54:00Z</dcterms:created>
  <dc:creator>SCSadmin</dc:creator>
  <dc:description/>
  <dc:language>en-US</dc:language>
  <cp:lastModifiedBy>Rebecca</cp:lastModifiedBy>
  <dcterms:modified xsi:type="dcterms:W3CDTF">2012-03-20T23:18:01Z</dcterms:modified>
  <cp:revision>19</cp:revision>
  <dc:subject/>
  <dc:title>Environmental Issues in German Speaking Countries</dc:title>
</cp:coreProperties>
</file>